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109-4985-4072-83DE-6C3FED5B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938-D13F-4ADA-AB72-6786D9E1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54B-E7FE-4ABF-B5AD-F5B6A6AF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DF2-9266-497B-9852-AC3DFEFC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F1A4-6E4C-407E-BEBD-5EA25535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8030-38E7-49BF-A61B-ED8CB6F4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3097-1CFC-4C3C-BBFF-8185464C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D774-4A7A-4DF7-9239-FD417D25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BCB2-55E4-4A18-ABA4-3CF91AD9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1FDD-23F0-42C7-BFB1-D4419A6E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ADE3-F674-439D-B7B4-EF0EA46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DEC-FEB5-4C93-8F55-276D9B15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3D8E-7CF0-4BC0-9B9C-A5C93C2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FA63-E2CB-4BB0-8546-D298355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5858-3AEA-4D46-9BAF-2E2EA54C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49CF-D95D-48E0-97B8-F94B47EA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8FEF-9568-423B-A0F8-06193230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456-8D9E-43EB-B683-6FEF5CB6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BEA-ABE9-4FB4-9ABC-CB5B83FE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2A3-E54D-4A5D-B12D-D0840BAE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8DB-62AA-491E-8DD5-A989FEC2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C4A-34BC-466D-828D-63AD85AA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C30-5B7B-4E63-866D-F0005BA2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09F-0D9D-4E21-AEFD-E137B9A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B9CF-8DF8-4274-8DC0-03DDB167E7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7665-104A-4D3E-88F2-9C10A957C8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F6245702-42A4-4D90-B507-2EE100F44E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ους οὐραν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ς τα πλο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ης οἰκ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 του ἱ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ῃ ἐκκλησι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the he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o the crow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way from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772160" y="218124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o the heav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owards the b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ut of (from) the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away) from the te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Church (assemb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ης καρδ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τους ὀχλ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 του αὐ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MORE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A6950411-255A-4B69-877F-1C7F0B09A1A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’ αὐ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ν νομ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τα του θε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ερ του κυρι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ον θεο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υ Χρισ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bout l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ut of 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under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ith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772160" y="2181240"/>
            <a:ext cx="29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of the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gainst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 behalf of the L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rom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rough Ch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ρι (της) ἀγαπ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(της) θαλασ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ο την γη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AD79C665-D8D0-495A-83C5-8DB424D74D6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0" y="1649520"/>
            <a:ext cx="542916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δια τον λογον του κυριου πιστευω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Ἰησους ἀγει τους ἀδελφους προ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α πλοι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αλαουσιν αὐτῳ περι του ἱερ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ει ὁ κυριος της οἰκιας ὑπερ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τεκν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υἱος λαμβανει τον ἀρτον μετ’ αὐ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θεος φιλει τα ἐργα κατα τον νομο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781520" y="16700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believe because of the word of the Lord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772160" y="2367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is leading the brothers towards the bo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786200" y="3429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speaking to him about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786200" y="41022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aster of the household speaks on behalf of his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797360" y="51577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n takes the bread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4786200" y="5864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loves the deeds according to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FE2305DB-9CA4-4981-B402-C09C71FD258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42920" y="1755720"/>
            <a:ext cx="54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ὁ Παυλος λεγει τῳ λαῳ κατα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Χριστου τ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17748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ul speaks to the people against God’s messia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25369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leading the children into the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32274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 αὐτο ἐν τῃ καρδια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929120" y="39290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Ἰησους διδασκει τον ὀχλον ἐξω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929120" y="47149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φιλει τους λαους ὑπο (τον)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929120" y="55278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λεγει τον νομον δια ἀγγελων (δι’ ἀγγελω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136440" y="2517840"/>
            <a:ext cx="5429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ἀγουσιν τα τεκνα εἰς τον οἰκο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42920" y="3214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ee it in her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157320" y="407196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is teaching the crowd outside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146160" y="4738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loves the peoples under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139680" y="55418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the law through ang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85800" y="164304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of the following would use an instrumental dative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Gree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28840" y="26431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ent with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28840" y="33577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hit by a 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428840" y="407196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helped by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33520" y="47815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was walking with a sti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fld id="{E0FCD77C-8F17-41E7-9C07-2BFF25DC71E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420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INSTRUMENTS AND D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Arrow 9"/>
          <p:cNvSpPr/>
          <p:nvPr/>
        </p:nvSpPr>
        <p:spPr>
          <a:xfrm>
            <a:off x="5214960" y="3405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Arrow 10"/>
          <p:cNvSpPr/>
          <p:nvPr/>
        </p:nvSpPr>
        <p:spPr>
          <a:xfrm>
            <a:off x="5214960" y="486252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87480" y="2476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5 and 4.6 QUESTIONS &amp;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000080" y="20955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27"/>
          <p:cNvSpPr/>
          <p:nvPr/>
        </p:nvSpPr>
        <p:spPr>
          <a:xfrm>
            <a:off x="271440" y="1285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143000" y="201312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ἀκου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οὐκ ἀκου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ἡ καρδια λεγ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πιστευω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 ἀγεις τον ὀχ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νομ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572000" y="21510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es God he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4572000" y="2705040"/>
            <a:ext cx="27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does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83160" y="3252960"/>
            <a:ext cx="37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 does the heart spe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572000" y="3809880"/>
            <a:ext cx="34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 do not believe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572000" y="4336920"/>
            <a:ext cx="451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re are you leading the crow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572000" y="48816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you keep the la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5:58:03Z</dcterms:created>
  <dc:creator>Sarah</dc:creator>
  <dc:description/>
  <dc:language>en-US</dc:language>
  <cp:lastModifiedBy>Sarah</cp:lastModifiedBy>
  <dcterms:modified xsi:type="dcterms:W3CDTF">2009-03-03T14:54:23Z</dcterms:modified>
  <cp:revision>35</cp:revision>
  <dc:subject/>
  <dc:title>Slide 1</dc:title>
</cp:coreProperties>
</file>